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C24-D88A-4E1C-996B-478F8A31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559-054C-4D29-BB67-89B012E3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870C-447A-43F4-AF15-B9AF4B96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793B-0597-48FD-93E1-F53A8C59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2530-6C48-4CC7-8300-53EFD7D3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73D8-1FE4-49CD-A43B-9A2954B9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F120-B31C-4458-A45E-AE9A233C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A523-F6F2-41AA-8E53-5CF1B776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28D8-F34B-4E7D-9C9F-598BADA8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1D34-B98C-4EFA-822D-83AC9BDB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BABD-1A1E-4EC5-A5F9-4EB0E3DB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F692-AE4A-431D-A455-B841BF2F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2542-A090-4E67-B8DA-DC1787DE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2544-4068-4674-8305-00E109C7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2290-7AE2-45B8-BF86-79B4C21E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F9EA-A9BA-4A93-B238-C152C81A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C403-839E-4851-A81E-F64F7622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22E-96FC-4A51-A760-7F75990D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A6A-C6AD-406E-9095-1CE2CC3F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19E8-109E-4946-B93D-1DD413CB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921-96C5-4812-88DD-28259BC2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70C-1AEE-48F0-93FB-A6149248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FCE-4E56-4326-B3A5-EB05DD10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17E-8D31-4202-BC22-F0AF1CDA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568D-CD00-407A-B2A1-C860271BA9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5004-7F0A-4B81-A12B-F3B42F3764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cKenneman, Inc.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RAM Proposal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sign Team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Jay Hoffm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ory Kenned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olanda McCulloug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nse Amp Layou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27240" y="1827360"/>
            <a:ext cx="399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nse Amp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1 microns wi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igned to be same width as bitcell so it can be easily wired to the arr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4:16 Decod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85840" y="1827360"/>
            <a:ext cx="5881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4:16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 2:4 decoders combi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 of these make up 7:128 deco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00 microns long to connect with buffers to the memory arr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Layou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80960" y="2792520"/>
            <a:ext cx="7290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Statistic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mensions estimated to be 5478 microns by 1415 micr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roximate Area: 7,751,370 microns^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ludes memory array, 7:128 decoder, WL buffers, precharge, sense amps, output buff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ra room estimated for registers, tri-state buffers, smaller logic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NM Bitcell Simul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25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ngth of the side of largest square inside curv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st Case: S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ad: .65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ld: .94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orst Case: 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ad: .48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ld: .79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7920" y="2589120"/>
            <a:ext cx="3995640" cy="2398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91120" y="51055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case for a SF bit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Sim for a Read/Write/Re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49440" y="1827360"/>
            <a:ext cx="5154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Sim Notes R/W/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line shows CLK and Output of Tri-state buffer after a rea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line show BL(blue) and BLB(red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line shows Sense Amps firing and their outp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line shows WL enabled inside of prechar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line shows read/write sign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ix Access Simul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73200" y="1827360"/>
            <a:ext cx="6838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sign Approac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matic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lock Desig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op-level Desig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you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itcell Layou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eripheral and Block Layou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mul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NM simulations of bitc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lock simula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blems Encounter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tric Analys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6 Access for bloc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rites a one into a block and reads it 5 times for total average power of 31 m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tal time for D-Q is 15.5 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output is latched on rising clock edge, with 2.5ns to propagate through register and tri-state buffer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blems Encounter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ck distribu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asuring enough clock delays to fire sense amps at the correct ti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laying and buffering the prechar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low simulation ti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iring and reducing layou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tric Analy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erage power of 1 write and 5 reads: .031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rgest delay: 13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tal Area: 32*(7,751,370 microns^2) = 248,043,840 microns^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tric= (Watts^2)*(delay in ns)*(area in um^2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cKenneman’s Score=3.099E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cKenneman, Inc. has developed an efficient and power saving SRAM desig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al Feat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w voltage ope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sign for controllability and observabi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lock enable signal power gates idle block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esign Approac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w Power SRAM running at Vdd = 2.5V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gating on idle block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Mb of mem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de of 32 blocks of 128x256 bi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2bit words addressed with 15bi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oltage sense amp to reduce precharge pow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nimizing bitcell layout to reduce overall siz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Schemati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08200" y="1827360"/>
            <a:ext cx="697536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lock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7:128 row address decoder raises the W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:8 decoder selects the 32 columns to when writing to the mem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ach bitline has a sense amp to reduce the time each WL is enabled and reduce the amount of precharg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chain of 32 8:1 muxes after the sense amps selects the word on a read ope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register latches the block output and is wired to a tri-state buffer, allowing all blocks to share one SRAM outpu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op-Level Schemati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38200" y="1827360"/>
            <a:ext cx="724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op-Level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bits of address choose the bloc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ad, Write, and input addresses are held by regis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plying the philosophy of designing for controllability, precharge and sense amp enable are pinned ou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signing for observability, a sense amp’s output is pinned out for timing verifi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tcell Layou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41600" y="1965240"/>
            <a:ext cx="68389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tcell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mensions: 19.8 microns by 8.4 micr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a: 166.32 microns^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a is saved in the array by overlapping mirrored bitcells every other row to share ground and vdd connection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4:05:04Z</dcterms:created>
  <dc:creator>ITC Labs and Classrooms</dc:creator>
  <dc:description/>
  <dc:language>en-US</dc:language>
  <cp:lastModifiedBy>ITC Labs and Classrooms</cp:lastModifiedBy>
  <dcterms:modified xsi:type="dcterms:W3CDTF">2007-12-06T18:27:41Z</dcterms:modified>
  <cp:revision>5</cp:revision>
  <dc:subject/>
  <dc:title>McKenneman, Inc. SRAM Proposal</dc:title>
</cp:coreProperties>
</file>